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A8A16-B926-4E0B-B788-6779EF8D6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2BC50-3B8A-4F30-9452-A86CBB7C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7A3DF-F084-4775-AE75-D6A3D0F2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3C581-8D34-4184-8638-DE7D5B237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2CC5-2EBF-4044-A740-EF03C95EF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226B-5900-4A2B-95ED-E28AAD9F1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B10A-6538-4D32-AA54-897A168A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EFDE-371A-43E2-8B0D-CE7DA1AC9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2FB7-5A14-44CB-80C9-024B7AA9F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F261-B809-417A-A346-4857B463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E5EA-6FDC-4395-AFDD-B1F83A26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678E-447A-4049-B64F-72844833D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8AE1-39C3-42EB-A8E3-42386340D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8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Davidson Rockefell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9-1937</a:t>
            </a:r>
            <a:endParaRPr b="0" lang="en-US" sz="3200" spc="-1" strike="noStrike">
              <a:solidFill>
                <a:srgbClr val="000000"/>
              </a:solidFill>
              <a:latin typeface="Arial"/>
            </a:endParaRPr>
          </a:p>
        </p:txBody>
      </p:sp>
      <p:pic>
        <p:nvPicPr>
          <p:cNvPr id="43" name="" descr=""/>
          <p:cNvPicPr/>
          <p:nvPr/>
        </p:nvPicPr>
        <p:blipFill>
          <a:blip r:embed="rId1"/>
          <a:stretch/>
        </p:blipFill>
        <p:spPr>
          <a:xfrm>
            <a:off x="3200400" y="533520"/>
            <a:ext cx="2801880" cy="3352680"/>
          </a:xfrm>
          <a:prstGeom prst="rect">
            <a:avLst/>
          </a:prstGeom>
          <a:ln w="9360">
            <a:solidFill>
              <a:srgbClr val="000000"/>
            </a:solidFill>
            <a:miter/>
          </a:ln>
        </p:spPr>
      </p:pic>
      <p:sp>
        <p:nvSpPr>
          <p:cNvPr id="44" name=""/>
          <p:cNvSpPr/>
          <p:nvPr/>
        </p:nvSpPr>
        <p:spPr>
          <a:xfrm>
            <a:off x="-15840" y="6553080"/>
            <a:ext cx="68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fel639.tripod.com/sitebuildercontent/sitebuilderpictures/john_d_rockefeller.jpeg</a:t>
            </a:r>
            <a:endParaRPr b="0" lang="en-US" sz="1400" spc="-1" strike="noStrike">
              <a:solidFill>
                <a:srgbClr val="000000"/>
              </a:solidFill>
              <a:latin typeface="Arial"/>
            </a:endParaRPr>
          </a:p>
        </p:txBody>
      </p:sp>
      <p:sp>
        <p:nvSpPr>
          <p:cNvPr id="45" name=""/>
          <p:cNvSpPr/>
          <p:nvPr/>
        </p:nvSpPr>
        <p:spPr>
          <a:xfrm>
            <a:off x="7252200" y="5867280"/>
            <a:ext cx="99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hood</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 Richford, New York on July 8, 193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was a traveling ‘doctor,’ traveled great dista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 religious, taught Rockefeller to g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nt a farmer fifty dollars he had saved at 7% interest at the age of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wego Academy, he excelled in doing arithmetic problems, but otherwise was an average stu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high school, he was on the debate team and was encouraged to do public speaking, a skill that would prove useful for him.</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nt to Folsom’s Commercial College in 1855 and learned bookkeeping, penmanship, commercial history, mercantile customs, banking, and ex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Financial Succes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he turned 20, Rockefeller started a merchant partnership with a man named Maurice Clark, commissioning in hay, meats, g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business was competitive, they managed to do well, and business picked up during the Civil War with the increase of grain p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eavor Into Oil</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demand increased, Rockefeller took an interest in the railroad system being impleme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9 in Pennsylvania, the oil industry started to boom. Rockefeller took advantage of this with Henry Flagler and Sam Andrews by establishing the Standard Oil Company, then called Rockefeller, Andrews, and Flag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anthropy</a:t>
            </a:r>
            <a:endParaRPr b="0" lang="en-US" sz="4400" spc="-1" strike="noStrike">
              <a:solidFill>
                <a:srgbClr val="000000"/>
              </a:solidFill>
              <a:latin typeface="Arial"/>
            </a:endParaRPr>
          </a:p>
        </p:txBody>
      </p:sp>
      <p:sp>
        <p:nvSpPr>
          <p:cNvPr id="55"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ted over 3.5 million dollars to establish Acadia National Park, Ma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 $35 million to support the University of Chicag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ve money to Spelman College, a historically black college for women when few people supported education for women or black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ted more than $56 million for restoration of colonial Williamsburg, Virgin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a church in New York, New York that was open to all Christians. (It didn’t discriminate about slight variations in belief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the Rockefeller Foundation which donates money to different places across the world that need mone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47:27Z</dcterms:created>
  <dc:creator>Yarmouth Schools</dc:creator>
  <dc:description/>
  <dc:language>en-US</dc:language>
  <cp:lastModifiedBy>YHS Teacher</cp:lastModifiedBy>
  <dcterms:modified xsi:type="dcterms:W3CDTF">2009-04-02T14:33:07Z</dcterms:modified>
  <cp:revision>4</cp:revision>
  <dc:subject/>
  <dc:title>John Davidson Rockefeller</dc:title>
</cp:coreProperties>
</file>